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move the slide</a:t>
            </a:r>
            <a:endParaRPr b="1" lang="en-US" sz="3800" spc="-1" strike="noStrike">
              <a:solidFill>
                <a:srgbClr val="387c2c"/>
              </a:solidFill>
              <a:latin typeface="Adobe Garamond Pro"/>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7643-0A8A-4A13-AB17-70C247DB4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t;Narrative below covers both slides on classification hierarchy.&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stated previously, mode of action describes the overall effect of herbicides on plants, including the symptoms observed after treatment. </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Mode of action can be considered “the big picture.” However, herbicides within a common mode of action may interact at different biochemical sites in the plant, a process differentiated by herbicide mechanism of action. </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Mechanism of action can be considered “a specific detai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bicides from different families may have</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different mechanisms of action as shown on this slide, where triazines and substituted ureas (two different families) have different mechanisms of action, or herbicides from different families, such as the “dims,” “fops,” and “dens” (as shown on the next slide) may act on the same mechanism of a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may help to remember that mode of action and mechanism of action are terms referring to the general and specific responses of the susceptible plant, while categorization according to herbicide family is based on the chemical characteristics of the herbicide molecu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 The launch of Slide 17 will need to run on autoplay because the narrative covers both examples.&g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1134-1CDF-4BDF-B0CF-1226AAAD53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4AA-E4CE-4A2C-8B28-9B1BCF05D4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74779-08D9-486D-B235-D554750105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9"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43D4E774-5F18-494F-9D13-4D3B7D2C5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A91474A6-0DE6-4425-A140-34A8B9A1D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7"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D6BE6CFD-5D77-4D78-B44E-F4387F5FD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D0D37B-9B6F-4D23-93FB-51CD2B9D3A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4"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E5E586B-E157-4335-8A0C-EA94448512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6"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834FA8E5-AB80-4879-94E8-4A1CCAA43B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FE8482FF-C42B-46B9-9245-8F9CB7758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2"/>
          </p:nvPr>
        </p:nvSpPr>
        <p:spPr/>
        <p:txBody>
          <a:bodyPr/>
          <a:p>
            <a:fld id="{CA519869-F9D7-45C3-A1B8-F2A9AB75B8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8CB89B2A-E2F8-4023-9961-B4B48A0ACF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6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24571CA3-8C04-495A-8C88-4299FE8EA0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8"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83C2F577-F191-43FE-BDCE-1496BF5CC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6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80CD4B33-98CF-4537-93CA-E73AE929B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EB6F13D-F93E-47D0-B55F-9BD75D3A07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5"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4D047EC4-163F-4DCB-991F-DE7C4FD18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2D2CF9CF-2B11-4AE8-B7A1-0A3DF45C2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83"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962B7BF4-CD5C-4144-AAE1-FF06A5A6C8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1986C3-3BEC-4479-B246-0A61C65233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0"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E55A64C-8AA6-4C8E-A8F4-8E785360EC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2"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5CA5DA05-63C2-4B20-9345-B0DD96993E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38D52B7B-4C04-4D0D-822C-5DFAF03F3C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3"/>
          </p:nvPr>
        </p:nvSpPr>
        <p:spPr/>
        <p:txBody>
          <a:bodyPr/>
          <a:p>
            <a:fld id="{F6FE0251-3DCB-4C85-914D-F7FE7B84A0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A1532081-AB2C-4BDE-95A7-181BEA876C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249A803D-00D8-4A01-935C-3A6C8745B4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29AC74F0-6FE1-4EB9-A77C-03E4BFA384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1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FB6BCAB5-06A7-4A83-80C0-E4D62C5987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004FBD22-4ECB-46DC-9ECD-FE4C474C53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1"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8B24F512-93C0-4132-B090-45E195CD07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EEF972B5-0CD7-4E9C-AC2C-8EEEDFBDF3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9"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01173EE0-33B9-4033-B922-BBD71D9924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E9BE0D-5AF1-4F8B-854E-397FF5BB09B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46"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6198D92E-61AC-44DA-A940-83F98BC83D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48"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3C8A1385-66EA-4BEE-9062-88F2554E8F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55B0B57A-0487-4456-9680-B74699CE2C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FF6B2220-F50D-4946-B919-4317E11777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4"/>
          </p:nvPr>
        </p:nvSpPr>
        <p:spPr/>
        <p:txBody>
          <a:bodyPr/>
          <a:p>
            <a:fld id="{A4BBED37-945D-4F90-A87E-E62D53B917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32E3DDCE-D721-400F-8386-286E0591FD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581B2ACB-AE1D-470B-BFFD-FFF99D4427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F63F3BE3-F3A0-4B25-83A4-AA911330DE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6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DC5424CD-50F0-43EC-B591-62325511E0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67"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61171B2E-AB35-4AA8-AD70-46F69D6E45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013D53F1-5B83-4CF2-9145-A8C56A998E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5"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8924D1E0-C529-4A11-B7A4-4C884EB9A5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84AAA8-D46F-41AD-B03C-6112A79C4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1"/>
          </p:nvPr>
        </p:nvSpPr>
        <p:spPr/>
        <p:txBody>
          <a:bodyPr/>
          <a:p>
            <a:fld id="{8BDCC855-C39B-45FA-99A4-66C9903801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42F9A87C-2892-4CE1-AFA7-2D0C65AAD22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E716BE91-6A16-4D72-BB4B-45C768276C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FDB9E9F5-914C-40AF-B0A4-44CD2E3ACDE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5"/>
          </p:nvPr>
        </p:nvSpPr>
        <p:spPr/>
        <p:txBody>
          <a:bodyPr/>
          <a:p>
            <a:fld id="{ECC9A92E-5E96-424E-A64D-9AF8994C7E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672D9A1F-2D07-484B-A277-DC5D261904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E40E6EDB-328D-4533-84A2-A090A1313B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E7E7EF51-507C-4745-BF72-0674922F939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790B34D4-2BE8-4691-9D25-CE632CA82F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26A21E41-44B4-4780-90D0-85A0A97E2D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9618308A-0860-4AE3-B792-7014DFD58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01A756EA-F484-470A-9B0C-F3DC6290F4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2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E63FDE4A-4B48-4E3F-9865-98390FE66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D56FA77E-DF6D-476D-9E60-FFCBA96D2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02888DB7-2842-45B6-A432-87573F8FE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D78F48A0-DA06-4D01-B239-DDD46BD1F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3" name="Picture 7" descr="wssa swoosh header"/>
          <p:cNvPicPr/>
          <p:nvPr/>
        </p:nvPicPr>
        <p:blipFill>
          <a:blip r:embed="rId2"/>
          <a:stretch/>
        </p:blipFill>
        <p:spPr>
          <a:xfrm>
            <a:off x="0" y="0"/>
            <a:ext cx="9140760" cy="1023840"/>
          </a:xfrm>
          <a:prstGeom prst="rect">
            <a:avLst/>
          </a:prstGeom>
          <a:ln w="0">
            <a:noFill/>
          </a:ln>
        </p:spPr>
      </p:pic>
      <p:sp>
        <p:nvSpPr>
          <p:cNvPr id="4"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6" name="PlaceHolder 3"/>
          <p:cNvSpPr>
            <a:spLocks noGrp="1"/>
          </p:cNvSpPr>
          <p:nvPr>
            <p:ph type="sldNum" idx="1"/>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0431-1C4E-4F10-99F2-8C673935EB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44" name="Picture 7" descr="wssa swoosh header"/>
          <p:cNvPicPr/>
          <p:nvPr/>
        </p:nvPicPr>
        <p:blipFill>
          <a:blip r:embed="rId2"/>
          <a:stretch/>
        </p:blipFill>
        <p:spPr>
          <a:xfrm>
            <a:off x="0" y="0"/>
            <a:ext cx="9140760" cy="1023840"/>
          </a:xfrm>
          <a:prstGeom prst="rect">
            <a:avLst/>
          </a:prstGeom>
          <a:ln w="0">
            <a:noFill/>
          </a:ln>
        </p:spPr>
      </p:pic>
      <p:sp>
        <p:nvSpPr>
          <p:cNvPr id="45"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47"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12" descr=""/>
          <p:cNvPicPr/>
          <p:nvPr/>
        </p:nvPicPr>
        <p:blipFill>
          <a:blip r:embed="rId3"/>
          <a:stretch/>
        </p:blipFill>
        <p:spPr>
          <a:xfrm>
            <a:off x="255600" y="6473880"/>
            <a:ext cx="979560" cy="345960"/>
          </a:xfrm>
          <a:prstGeom prst="rect">
            <a:avLst/>
          </a:prstGeom>
          <a:ln w="0">
            <a:noFill/>
          </a:ln>
        </p:spPr>
      </p:pic>
      <p:sp>
        <p:nvSpPr>
          <p:cNvPr id="49"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5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5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2" name="PlaceHolder 3"/>
          <p:cNvSpPr>
            <a:spLocks noGrp="1"/>
          </p:cNvSpPr>
          <p:nvPr>
            <p:ph type="sldNum" idx="2"/>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A786-5687-4836-8AA0-237861DBE0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90" name="Picture 7" descr="wssa swoosh header"/>
          <p:cNvPicPr/>
          <p:nvPr/>
        </p:nvPicPr>
        <p:blipFill>
          <a:blip r:embed="rId2"/>
          <a:stretch/>
        </p:blipFill>
        <p:spPr>
          <a:xfrm>
            <a:off x="0" y="0"/>
            <a:ext cx="9140760" cy="1023840"/>
          </a:xfrm>
          <a:prstGeom prst="rect">
            <a:avLst/>
          </a:prstGeom>
          <a:ln w="0">
            <a:noFill/>
          </a:ln>
        </p:spPr>
      </p:pic>
      <p:sp>
        <p:nvSpPr>
          <p:cNvPr id="91"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93"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Picture 12" descr=""/>
          <p:cNvPicPr/>
          <p:nvPr/>
        </p:nvPicPr>
        <p:blipFill>
          <a:blip r:embed="rId3"/>
          <a:stretch/>
        </p:blipFill>
        <p:spPr>
          <a:xfrm>
            <a:off x="255600" y="6473880"/>
            <a:ext cx="979560" cy="345960"/>
          </a:xfrm>
          <a:prstGeom prst="rect">
            <a:avLst/>
          </a:prstGeom>
          <a:ln w="0">
            <a:noFill/>
          </a:ln>
        </p:spPr>
      </p:pic>
      <p:sp>
        <p:nvSpPr>
          <p:cNvPr id="95"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9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97"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8" name="PlaceHolder 3"/>
          <p:cNvSpPr>
            <a:spLocks noGrp="1"/>
          </p:cNvSpPr>
          <p:nvPr>
            <p:ph type="sldNum" idx="3"/>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232A-9FDB-403B-9944-593DF08D32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136" name="Picture 7" descr="wssa swoosh header"/>
          <p:cNvPicPr/>
          <p:nvPr/>
        </p:nvPicPr>
        <p:blipFill>
          <a:blip r:embed="rId2"/>
          <a:stretch/>
        </p:blipFill>
        <p:spPr>
          <a:xfrm>
            <a:off x="0" y="0"/>
            <a:ext cx="9140760" cy="1023840"/>
          </a:xfrm>
          <a:prstGeom prst="rect">
            <a:avLst/>
          </a:prstGeom>
          <a:ln w="0">
            <a:noFill/>
          </a:ln>
        </p:spPr>
      </p:pic>
      <p:sp>
        <p:nvSpPr>
          <p:cNvPr id="137"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39"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12" descr=""/>
          <p:cNvPicPr/>
          <p:nvPr/>
        </p:nvPicPr>
        <p:blipFill>
          <a:blip r:embed="rId3"/>
          <a:stretch/>
        </p:blipFill>
        <p:spPr>
          <a:xfrm>
            <a:off x="255600" y="6473880"/>
            <a:ext cx="979560" cy="345960"/>
          </a:xfrm>
          <a:prstGeom prst="rect">
            <a:avLst/>
          </a:prstGeom>
          <a:ln w="0">
            <a:noFill/>
          </a:ln>
        </p:spPr>
      </p:pic>
      <p:sp>
        <p:nvSpPr>
          <p:cNvPr id="141"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4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43"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4" name="PlaceHolder 3"/>
          <p:cNvSpPr>
            <a:spLocks noGrp="1"/>
          </p:cNvSpPr>
          <p:nvPr>
            <p:ph type="sldNum" idx="4"/>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4806-5ABF-4AAB-943A-8AD8C34FF6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182" name="Picture 7" descr="wssa swoosh header"/>
          <p:cNvPicPr/>
          <p:nvPr/>
        </p:nvPicPr>
        <p:blipFill>
          <a:blip r:embed="rId2"/>
          <a:stretch/>
        </p:blipFill>
        <p:spPr>
          <a:xfrm>
            <a:off x="0" y="0"/>
            <a:ext cx="9140760" cy="1023840"/>
          </a:xfrm>
          <a:prstGeom prst="rect">
            <a:avLst/>
          </a:prstGeom>
          <a:ln w="0">
            <a:noFill/>
          </a:ln>
        </p:spPr>
      </p:pic>
      <p:sp>
        <p:nvSpPr>
          <p:cNvPr id="183"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85"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Box 12"/>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8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9" name="PlaceHolder 3"/>
          <p:cNvSpPr>
            <a:spLocks noGrp="1"/>
          </p:cNvSpPr>
          <p:nvPr>
            <p:ph type="sldNum" idx="5"/>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30CE-F903-4B36-8CFF-B33D07EF29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Calibri"/>
              </a:rPr>
              <a:t>Classification Hierarchy</a:t>
            </a:r>
            <a:endParaRPr b="1" lang="en-US" sz="3800" spc="-1" strike="noStrike">
              <a:solidFill>
                <a:srgbClr val="387c2c"/>
              </a:solidFill>
              <a:latin typeface="Adobe Garamond Pro"/>
            </a:endParaRPr>
          </a:p>
        </p:txBody>
      </p:sp>
      <p:sp>
        <p:nvSpPr>
          <p:cNvPr id="23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7101-43F9-4755-9740-8293F0AB240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pic>
        <p:nvPicPr>
          <p:cNvPr id="235" name="Diagram 1" descr=""/>
          <p:cNvPicPr/>
          <p:nvPr/>
        </p:nvPicPr>
        <p:blipFill>
          <a:blip r:embed="rId1"/>
          <a:stretch/>
        </p:blipFill>
        <p:spPr>
          <a:xfrm>
            <a:off x="609480" y="1981080"/>
            <a:ext cx="7851960" cy="4041720"/>
          </a:xfrm>
          <a:prstGeom prst="rect">
            <a:avLst/>
          </a:prstGeom>
          <a:ln w="0">
            <a:noFill/>
          </a:ln>
        </p:spPr>
      </p:pic>
      <p:grpSp>
        <p:nvGrpSpPr>
          <p:cNvPr id="236" name="Group 37"/>
          <p:cNvGrpSpPr/>
          <p:nvPr/>
        </p:nvGrpSpPr>
        <p:grpSpPr>
          <a:xfrm>
            <a:off x="4267080" y="1649520"/>
            <a:ext cx="946440" cy="337320"/>
            <a:chOff x="4267080" y="1649520"/>
            <a:chExt cx="946440" cy="337320"/>
          </a:xfrm>
        </p:grpSpPr>
        <p:sp>
          <p:nvSpPr>
            <p:cNvPr id="237" name="TextBox 38"/>
            <p:cNvSpPr/>
            <p:nvPr/>
          </p:nvSpPr>
          <p:spPr>
            <a:xfrm>
              <a:off x="4267080" y="1649520"/>
              <a:ext cx="946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Example</a:t>
              </a:r>
              <a:endParaRPr b="0" lang="en-US" sz="1600" spc="-1" strike="noStrike">
                <a:solidFill>
                  <a:srgbClr val="000000"/>
                </a:solidFill>
                <a:latin typeface="Calibri"/>
              </a:endParaRPr>
            </a:p>
          </p:txBody>
        </p:sp>
        <p:sp>
          <p:nvSpPr>
            <p:cNvPr id="238" name="Straight Connector 39"/>
            <p:cNvSpPr/>
            <p:nvPr/>
          </p:nvSpPr>
          <p:spPr>
            <a:xfrm>
              <a:off x="4373280" y="1692360"/>
              <a:ext cx="79092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Straight Connector 40"/>
            <p:cNvSpPr/>
            <p:nvPr/>
          </p:nvSpPr>
          <p:spPr>
            <a:xfrm>
              <a:off x="4373280" y="1940040"/>
              <a:ext cx="79092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0" name="Down Arrow 2"/>
          <p:cNvSpPr/>
          <p:nvPr/>
        </p:nvSpPr>
        <p:spPr>
          <a:xfrm rot="1356600">
            <a:off x="6841800" y="1554120"/>
            <a:ext cx="322200" cy="773280"/>
          </a:xfrm>
          <a:prstGeom prst="downArrow">
            <a:avLst>
              <a:gd name="adj1" fmla="val 50000"/>
              <a:gd name="adj2" fmla="val 49978"/>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Down Arrow 9"/>
          <p:cNvSpPr/>
          <p:nvPr/>
        </p:nvSpPr>
        <p:spPr>
          <a:xfrm rot="1356600">
            <a:off x="5300280" y="2590920"/>
            <a:ext cx="322200" cy="772920"/>
          </a:xfrm>
          <a:prstGeom prst="downArrow">
            <a:avLst>
              <a:gd name="adj1" fmla="val 50000"/>
              <a:gd name="adj2" fmla="val 49954"/>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Down Arrow 10"/>
          <p:cNvSpPr/>
          <p:nvPr/>
        </p:nvSpPr>
        <p:spPr>
          <a:xfrm rot="1356600">
            <a:off x="8137080" y="2590920"/>
            <a:ext cx="322200" cy="772920"/>
          </a:xfrm>
          <a:prstGeom prst="downArrow">
            <a:avLst>
              <a:gd name="adj1" fmla="val 50000"/>
              <a:gd name="adj2" fmla="val 49954"/>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Down Arrow 11"/>
          <p:cNvSpPr/>
          <p:nvPr/>
        </p:nvSpPr>
        <p:spPr>
          <a:xfrm rot="1356600">
            <a:off x="4211280" y="3689280"/>
            <a:ext cx="324000" cy="774720"/>
          </a:xfrm>
          <a:prstGeom prst="downArrow">
            <a:avLst>
              <a:gd name="adj1" fmla="val 50000"/>
              <a:gd name="adj2" fmla="val 49793"/>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Down Arrow 12"/>
          <p:cNvSpPr/>
          <p:nvPr/>
        </p:nvSpPr>
        <p:spPr>
          <a:xfrm rot="1356600">
            <a:off x="624636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Down Arrow 13"/>
          <p:cNvSpPr/>
          <p:nvPr/>
        </p:nvSpPr>
        <p:spPr>
          <a:xfrm rot="1356600">
            <a:off x="828972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extBox 15"/>
          <p:cNvSpPr/>
          <p:nvPr/>
        </p:nvSpPr>
        <p:spPr>
          <a:xfrm>
            <a:off x="7072200" y="2373480"/>
            <a:ext cx="13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MO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Calibri"/>
              </a:rPr>
              <a:t>Classification Hierarchy</a:t>
            </a:r>
            <a:endParaRPr b="1" lang="en-US" sz="3800" spc="-1" strike="noStrike">
              <a:solidFill>
                <a:srgbClr val="387c2c"/>
              </a:solidFill>
              <a:latin typeface="Adobe Garamond Pro"/>
            </a:endParaRPr>
          </a:p>
        </p:txBody>
      </p:sp>
      <p:sp>
        <p:nvSpPr>
          <p:cNvPr id="2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5E4D-6DE6-4BB0-BCCA-03FA0D7188D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pic>
        <p:nvPicPr>
          <p:cNvPr id="249" name="Diagram 1" descr=""/>
          <p:cNvPicPr/>
          <p:nvPr/>
        </p:nvPicPr>
        <p:blipFill>
          <a:blip r:embed="rId1"/>
          <a:stretch/>
        </p:blipFill>
        <p:spPr>
          <a:xfrm>
            <a:off x="609480" y="1981080"/>
            <a:ext cx="7851960" cy="4041720"/>
          </a:xfrm>
          <a:prstGeom prst="rect">
            <a:avLst/>
          </a:prstGeom>
          <a:ln w="0">
            <a:noFill/>
          </a:ln>
        </p:spPr>
      </p:pic>
      <p:grpSp>
        <p:nvGrpSpPr>
          <p:cNvPr id="250" name="Group 37"/>
          <p:cNvGrpSpPr/>
          <p:nvPr/>
        </p:nvGrpSpPr>
        <p:grpSpPr>
          <a:xfrm>
            <a:off x="3505320" y="1649520"/>
            <a:ext cx="946080" cy="337320"/>
            <a:chOff x="3505320" y="1649520"/>
            <a:chExt cx="946080" cy="337320"/>
          </a:xfrm>
        </p:grpSpPr>
        <p:sp>
          <p:nvSpPr>
            <p:cNvPr id="251" name="TextBox 38"/>
            <p:cNvSpPr/>
            <p:nvPr/>
          </p:nvSpPr>
          <p:spPr>
            <a:xfrm>
              <a:off x="3505320" y="1649520"/>
              <a:ext cx="946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Example</a:t>
              </a:r>
              <a:endParaRPr b="0" lang="en-US" sz="1600" spc="-1" strike="noStrike">
                <a:solidFill>
                  <a:srgbClr val="000000"/>
                </a:solidFill>
                <a:latin typeface="Calibri"/>
              </a:endParaRPr>
            </a:p>
          </p:txBody>
        </p:sp>
        <p:sp>
          <p:nvSpPr>
            <p:cNvPr id="252" name="Straight Connector 15"/>
            <p:cNvSpPr/>
            <p:nvPr/>
          </p:nvSpPr>
          <p:spPr>
            <a:xfrm>
              <a:off x="3611520" y="1692360"/>
              <a:ext cx="79056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Straight Connector 16"/>
            <p:cNvSpPr/>
            <p:nvPr/>
          </p:nvSpPr>
          <p:spPr>
            <a:xfrm>
              <a:off x="3611520" y="1940040"/>
              <a:ext cx="79056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4" name="Down Arrow 8"/>
          <p:cNvSpPr/>
          <p:nvPr/>
        </p:nvSpPr>
        <p:spPr>
          <a:xfrm rot="1356600">
            <a:off x="6460920" y="156672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Down Arrow 11"/>
          <p:cNvSpPr/>
          <p:nvPr/>
        </p:nvSpPr>
        <p:spPr>
          <a:xfrm rot="1356600">
            <a:off x="441756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Down Arrow 12"/>
          <p:cNvSpPr/>
          <p:nvPr/>
        </p:nvSpPr>
        <p:spPr>
          <a:xfrm rot="1356600">
            <a:off x="639900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Down Arrow 17"/>
          <p:cNvSpPr/>
          <p:nvPr/>
        </p:nvSpPr>
        <p:spPr>
          <a:xfrm rot="1356600">
            <a:off x="806112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Down Arrow 9"/>
          <p:cNvSpPr/>
          <p:nvPr/>
        </p:nvSpPr>
        <p:spPr>
          <a:xfrm rot="1356600">
            <a:off x="6460920" y="262260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
          <p:cNvSpPr/>
          <p:nvPr/>
        </p:nvSpPr>
        <p:spPr>
          <a:xfrm>
            <a:off x="6781680" y="2643120"/>
            <a:ext cx="13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MO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5T03:05:57Z</dcterms:created>
  <dc:creator>Ninh Nguyen</dc:creator>
  <dc:description/>
  <dc:language>en-US</dc:language>
  <cp:lastModifiedBy>Ninh Nguyen</cp:lastModifiedBy>
  <dcterms:modified xsi:type="dcterms:W3CDTF">2014-05-05T03:15:32Z</dcterms:modified>
  <cp:revision>9</cp:revision>
  <dc:subject/>
  <dc:title>Classification Hierarchy</dc:title>
</cp:coreProperties>
</file>